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14FBC-D2B4-4923-92F9-F88BD4B631E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FF334-57AB-4E7B-A671-E8401A3ED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4881E-0A29-4BA3-9A84-9B6C02720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6A5-FED4-45F7-AE5F-E39695CF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DA1-49FE-4F25-A7B4-F9364D0C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ACF-F802-4454-80D8-A7312FF0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2972-F11B-4CE0-A3B6-57312161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AE4E-BC84-45A4-8085-274DC0A0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40EB-3733-4180-9184-57119D88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ACC5-8820-49E1-85B0-9B7FEF7F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50D3-EE8E-4A8E-9237-3FA9BBE6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2102-86B0-4B0A-BF34-FCE340B6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07E5-59B0-47E9-9F5A-47410D31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5666-931D-4ED2-8973-2D67BF76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569B-C719-4CAE-956D-7F49A342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0141-6F27-41D4-8173-9A5E894F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22AC-1639-4A1E-B87E-FA87B2B7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0BA0-02D4-4166-BB8F-26444542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0BA0-FA75-4138-A1BF-E57E4FA5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3A6D-72D9-4467-A3FC-2A785499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9E0-E9EE-4AC0-AD3C-D0A86FA0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200-19DB-4AD1-A531-55EB0342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6F94-8ECD-4A26-8A64-968B4BF7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4CB-694A-4F07-9183-7615C624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E73-F47B-4BA9-9D78-A0292CB3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C7D-C25A-43E9-8873-50BA3FAC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DE0-00A8-40E0-9686-BB125CE7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01AD1-ACF0-47BD-AEE0-110CC63225D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EB3AD-21B0-4EAC-8729-C787B87EE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73CCC-CC6B-48E2-8FFB-4B8C6949EA8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A9F49-ACAA-4E7E-980B-89C590E1A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55840" y="3906360"/>
            <a:ext cx="622296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at is it? How do we se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43434"/>
                </a:solidFill>
                <a:latin typeface="Verdana"/>
              </a:rPr>
              <a:t>But I see it behind the mirror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Content Placeholder 3" descr="relection_mirror.jpg"/>
          <p:cNvPicPr/>
          <p:nvPr/>
        </p:nvPicPr>
        <p:blipFill>
          <a:blip r:embed="rId1"/>
          <a:srcRect l="0" t="12723" r="0" b="0"/>
          <a:stretch/>
        </p:blipFill>
        <p:spPr>
          <a:xfrm>
            <a:off x="1389240" y="2622600"/>
            <a:ext cx="6365520" cy="3660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287280" y="167652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flection creates another image (false image) for us to se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in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mi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6946920" y="-26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flective surfa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Reflective surfaces can be very usefu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Mirrors inside cars reflect light to help drivers see objects behind them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Reflective strips on clothing and bikes help cyclists to be extra visible at n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343434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Cat</a:t>
            </a:r>
            <a:r>
              <a:rPr b="0" lang="ja-JP" sz="3000" spc="-1" strike="noStrike">
                <a:solidFill>
                  <a:srgbClr val="343434"/>
                </a:solidFill>
                <a:latin typeface="Verdana"/>
              </a:rPr>
              <a:t>’</a:t>
            </a: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s eyes</a:t>
            </a:r>
            <a:r>
              <a:rPr b="0" lang="ja-JP" sz="3000" spc="-1" strike="noStrike">
                <a:solidFill>
                  <a:srgbClr val="343434"/>
                </a:solidFill>
                <a:latin typeface="Lucida Grande"/>
              </a:rPr>
              <a:t>”</a:t>
            </a: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 on the road reflect light from car headlamps to help the driver see the road at n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fraction of L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66280" y="17524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hn says, “When hunting a fish under water, you should aim your spear directly at the fish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agr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7" descr="\\Editorial\sci_npaw\Editing\SB (images and text)\SB image\160x120\11\11-4001.jpg"/>
          <p:cNvPicPr/>
          <p:nvPr/>
        </p:nvPicPr>
        <p:blipFill>
          <a:blip r:embed="rId1"/>
          <a:stretch/>
        </p:blipFill>
        <p:spPr>
          <a:xfrm>
            <a:off x="5611680" y="2665440"/>
            <a:ext cx="3532320" cy="266688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51"/>
          <p:cNvGrpSpPr/>
          <p:nvPr/>
        </p:nvGrpSpPr>
        <p:grpSpPr>
          <a:xfrm>
            <a:off x="574560" y="3995640"/>
            <a:ext cx="3089880" cy="523440"/>
            <a:chOff x="574560" y="3995640"/>
            <a:chExt cx="3089880" cy="523440"/>
          </a:xfrm>
        </p:grpSpPr>
        <p:sp>
          <p:nvSpPr>
            <p:cNvPr id="125" name="Text Box 52"/>
            <p:cNvSpPr/>
            <p:nvPr/>
          </p:nvSpPr>
          <p:spPr>
            <a:xfrm>
              <a:off x="1107720" y="3998520"/>
              <a:ext cx="255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es, of cours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574560" y="3995640"/>
              <a:ext cx="4572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566640" y="4848120"/>
            <a:ext cx="7732800" cy="947160"/>
            <a:chOff x="566640" y="4848120"/>
            <a:chExt cx="7732800" cy="947160"/>
          </a:xfrm>
        </p:grpSpPr>
        <p:sp>
          <p:nvSpPr>
            <p:cNvPr id="128" name="Rectangle 55"/>
            <p:cNvSpPr/>
            <p:nvPr/>
          </p:nvSpPr>
          <p:spPr>
            <a:xfrm>
              <a:off x="1100160" y="4848120"/>
              <a:ext cx="7199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o, because the fish is actually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ocated somewhere els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56"/>
            <p:cNvSpPr/>
            <p:nvPr/>
          </p:nvSpPr>
          <p:spPr>
            <a:xfrm>
              <a:off x="566640" y="4894200"/>
              <a:ext cx="4572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99"/>
          <p:cNvSpPr/>
          <p:nvPr/>
        </p:nvSpPr>
        <p:spPr>
          <a:xfrm>
            <a:off x="540720" y="4847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Our Lab Result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Content Placeholder 3" descr="light_coin_water.gif"/>
          <p:cNvPicPr/>
          <p:nvPr/>
        </p:nvPicPr>
        <p:blipFill>
          <a:blip r:embed="rId1"/>
          <a:stretch/>
        </p:blipFill>
        <p:spPr>
          <a:xfrm>
            <a:off x="4267080" y="1803240"/>
            <a:ext cx="3810240" cy="41659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574560" y="1803240"/>
            <a:ext cx="392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pennies did you eventually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74560" y="3048120"/>
            <a:ext cx="392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pencils did you eventually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74560" y="4270320"/>
            <a:ext cx="369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ght traveled through the air, then the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Why this happened in the lab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ray of light traveling in a transparent medium encounters a boundary leading into a second medium, part of the ray is reflected and part of the ray enters the second med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ay that enters the second medium is bent at the bound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bending of the ray is calle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RE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Content Placeholder 3" descr="Light_refraction.jpg"/>
          <p:cNvPicPr/>
          <p:nvPr/>
        </p:nvPicPr>
        <p:blipFill>
          <a:blip r:embed="rId1"/>
          <a:stretch/>
        </p:blipFill>
        <p:spPr>
          <a:xfrm>
            <a:off x="2133720" y="1506600"/>
            <a:ext cx="487656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hat Is Light?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omes out of the sun, lets us see things, and makes us wa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't grab it, can't outrun it, and can't seem to define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6280" y="2919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Speed of Light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ht travels at 299,792,458 meters per second. (That's 186,000 miles per second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that speed, you could travel around the earth more than 7 ti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ircumference of the Earth -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4,901 m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ance of Earth from the Sun -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2,960,000 m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48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un, fires and lamps are all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urc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f l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source of light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mak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ligh</a:t>
            </a: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rrors and other objects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flec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ght. They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o not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ke their own l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Moon does not make its own light, it simply reflects the light from the Su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204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me animals, such as fireflies and glow-worms, are light sources. They make their own light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(with internal chemicals 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uciferin mixing with oxygen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attract ma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" descr="MB900133529.JPG"/>
          <p:cNvPicPr/>
          <p:nvPr/>
        </p:nvPicPr>
        <p:blipFill>
          <a:blip r:embed="rId1"/>
          <a:stretch/>
        </p:blipFill>
        <p:spPr>
          <a:xfrm>
            <a:off x="574560" y="4343400"/>
            <a:ext cx="2473560" cy="247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images.jpeg"/>
          <p:cNvPicPr/>
          <p:nvPr/>
        </p:nvPicPr>
        <p:blipFill>
          <a:blip r:embed="rId2"/>
          <a:stretch/>
        </p:blipFill>
        <p:spPr>
          <a:xfrm>
            <a:off x="6769080" y="4038480"/>
            <a:ext cx="1806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48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irro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not a source of light. It doesn’t make its own light, it just reflects l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 would not be able to see a reflector of light, such as a mirror, in a completely dark ro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Dark_Room_by_ikiz.jpg"/>
          <p:cNvPicPr/>
          <p:nvPr/>
        </p:nvPicPr>
        <p:blipFill>
          <a:blip r:embed="rId1"/>
          <a:stretch/>
        </p:blipFill>
        <p:spPr>
          <a:xfrm>
            <a:off x="5524560" y="4595760"/>
            <a:ext cx="36194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43434"/>
                </a:solidFill>
                <a:latin typeface="Verdana"/>
              </a:rPr>
              <a:t>Seeing obj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see a light source when light from the source enters our ey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en light from a light source hits an object, it is </a:t>
            </a: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REFLECTED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bounces off) and enters our eyes. This is how we see the obje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me materials reflect light better than ot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angles are the sa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ntent Placeholder 3" descr="light_reflection.gif"/>
          <p:cNvPicPr/>
          <p:nvPr/>
        </p:nvPicPr>
        <p:blipFill>
          <a:blip r:embed="rId1"/>
          <a:stretch/>
        </p:blipFill>
        <p:spPr>
          <a:xfrm>
            <a:off x="1523880" y="1654200"/>
            <a:ext cx="6019920" cy="4514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2862360" y="3105000"/>
            <a:ext cx="1523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2862360" y="3105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gle of Inc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43434"/>
                </a:solidFill>
                <a:latin typeface="Verdana"/>
              </a:rPr>
              <a:t>How We See L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When light from an object is </a:t>
            </a:r>
            <a:r>
              <a:rPr b="1" i="1" lang="en-US" sz="3000" spc="-1" strike="noStrike">
                <a:solidFill>
                  <a:srgbClr val="343434"/>
                </a:solidFill>
                <a:latin typeface="Verdana"/>
              </a:rPr>
              <a:t>reflected</a:t>
            </a: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 by a surface, it </a:t>
            </a:r>
            <a:r>
              <a:rPr b="1" i="1" lang="en-US" sz="3000" spc="-1" strike="noStrike">
                <a:solidFill>
                  <a:srgbClr val="343434"/>
                </a:solidFill>
                <a:latin typeface="Verdana"/>
              </a:rPr>
              <a:t>changes</a:t>
            </a: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 </a:t>
            </a:r>
            <a:r>
              <a:rPr b="1" i="1" lang="en-US" sz="3000" spc="-1" strike="noStrike">
                <a:solidFill>
                  <a:srgbClr val="343434"/>
                </a:solidFill>
                <a:latin typeface="Verdana"/>
              </a:rPr>
              <a:t>direction</a:t>
            </a: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. It bounces off the surface at the same angle as it hits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43434"/>
                </a:solidFill>
                <a:latin typeface="Verdana"/>
              </a:rPr>
              <a:t>Smooth, shiny</a:t>
            </a: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 surfaces such as mirrors and polished metals </a:t>
            </a:r>
            <a:r>
              <a:rPr b="1" lang="en-US" sz="3000" spc="-1" strike="noStrike">
                <a:solidFill>
                  <a:srgbClr val="343434"/>
                </a:solidFill>
                <a:latin typeface="Verdana"/>
              </a:rPr>
              <a:t>reflect light wel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43434"/>
                </a:solidFill>
                <a:latin typeface="Verdana"/>
              </a:rPr>
              <a:t>Dull and dark </a:t>
            </a: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surfaces such as dark fabrics </a:t>
            </a:r>
            <a:r>
              <a:rPr b="1" lang="en-US" sz="3000" spc="-1" strike="noStrike">
                <a:solidFill>
                  <a:srgbClr val="343434"/>
                </a:solidFill>
                <a:latin typeface="Verdana"/>
              </a:rPr>
              <a:t>do not reflect light well</a:t>
            </a: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03:59:07Z</dcterms:created>
  <dc:creator>Denice Fogel</dc:creator>
  <dc:description/>
  <cp:keywords/>
  <dc:language>en-US</dc:language>
  <cp:lastModifiedBy>St. Aloysius</cp:lastModifiedBy>
  <cp:lastPrinted>2011-11-14T16:24:52Z</cp:lastPrinted>
  <dcterms:modified xsi:type="dcterms:W3CDTF">2014-03-05T16:04:39Z</dcterms:modified>
  <cp:revision>78</cp:revision>
  <dc:subject/>
  <dc:title>Light</dc:title>
</cp:coreProperties>
</file>